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32731-E35A-4494-AE2E-978F383F8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8DAEA-26E8-4807-8907-E05E2F1EA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2A423-4AD9-444E-B14A-60A198227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C1F14-27BF-4648-ABED-973A27C20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57EBF-9DFF-48E3-8519-32B210793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15BE5-86D3-4FC8-9849-7163750F0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D5A57-35A2-4F17-BA3A-8B10C775F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ABC9C-42ED-4322-8E32-5B5C8C8F6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DBF67-3777-4BEB-80C1-594855C8E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425E8-71A6-43A5-BCEA-016529E64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9A22-2034-4B0D-B551-BFE65FEDA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2BEE7-65E8-4D41-8B41-9DAB10291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B73A-0C32-43A6-B213-1B376C2A5D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6600" spc="-1" strike="noStrike">
                <a:solidFill>
                  <a:srgbClr val="000000"/>
                </a:solidFill>
                <a:latin typeface="Arial"/>
              </a:rPr>
              <a:t>Läskotten</a:t>
            </a:r>
            <a:endParaRPr b="0" lang="en-US" sz="6600" spc="-1" strike="noStrike">
              <a:solidFill>
                <a:srgbClr val="000000"/>
              </a:solidFill>
              <a:latin typeface="Arial"/>
            </a:endParaRPr>
          </a:p>
        </p:txBody>
      </p:sp>
      <p:pic>
        <p:nvPicPr>
          <p:cNvPr id="42" name="" descr=""/>
          <p:cNvPicPr/>
          <p:nvPr/>
        </p:nvPicPr>
        <p:blipFill>
          <a:blip r:embed="rId1"/>
          <a:stretch/>
        </p:blipFill>
        <p:spPr>
          <a:xfrm>
            <a:off x="2511360" y="5340240"/>
            <a:ext cx="1565280" cy="24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00" y="101520"/>
            <a:ext cx="6588000" cy="904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6875640" cy="943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57200" y="-762120"/>
            <a:ext cx="7772400" cy="1066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42720" y="395280"/>
            <a:ext cx="6172200" cy="7772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Den 28 sept – fredagen den 23 oktober (4 veckor) kommer vi att ha ett läsprojekt i skolan där hela skolan läser. Vi kallar läsprojektet för Läskott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Uppstartsvecka första veckan med lite extra ”läsaktiviteter”. ALLA läser varje dag första veckan mellan 9.15 – 9.45 och det skadar ju inte att fortsätta med det s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tt akvarium kommer att finnas i biblioteket och där ska läggas en kotte för varje läst bok. Första veckan behövs det nog tömmas kottar i akvariet ett par dagar, sedan fortsättningsvis kommer klassrepresentanter en gång/vecka för att tömma i kottar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42720" y="468000"/>
            <a:ext cx="6172200" cy="7699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Man får räkna alla böcker man läser eller någon läser för deltagarna, både i skolan och hemm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Alla elever ska tillverka/skriva ner något till en bok som lästs. Det ställs ut på biblioteket under avslutningsveck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Det är bra om alla lärare dokumenterar hur många böcker vardera elev läser/lyssnar på under läsprojekt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Läskotten håller på ända fram till höstlovet. Veckan efter höstlovet kommer det att vara avslutningsfest i biblioteket. Då kommer det att ske utlottning av fina bokmärken och alla får se den fina utställningen som kommer att göras där. Något gott att äta ska det också bl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v-SE" sz="2800" spc="-1" strike="noStrike">
                <a:solidFill>
                  <a:srgbClr val="000000"/>
                </a:solidFill>
                <a:latin typeface="Arial"/>
              </a:rPr>
              <a:t>Förslag till vad man kan göra under uppstartsveckan och även under den fortsatta tiden.</a:t>
            </a:r>
            <a:br>
              <a:rPr sz="4000"/>
            </a:br>
            <a:endParaRPr b="0" lang="en-US" sz="2800" spc="-1" strike="noStrike">
              <a:solidFill>
                <a:srgbClr val="000000"/>
              </a:solidFill>
              <a:latin typeface="Arial"/>
            </a:endParaRPr>
          </a:p>
        </p:txBody>
      </p:sp>
      <p:sp>
        <p:nvSpPr>
          <p:cNvPr id="46" name="PlaceHolder 2"/>
          <p:cNvSpPr>
            <a:spLocks noGrp="1"/>
          </p:cNvSpPr>
          <p:nvPr>
            <p:ph/>
          </p:nvPr>
        </p:nvSpPr>
        <p:spPr>
          <a:xfrm>
            <a:off x="342720" y="2363760"/>
            <a:ext cx="6172200" cy="5803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Läs en bok för klassen – dölj omslaget och när boken är läst målar alla ”sin” framsi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Läs först baksidan på boken för klassen. Alla får rita hur de tycker att framsidan ska se ut. När den vuxne har läst boken för klassen (med dold framsida) så får de igen rita hur de tycker framsidan ska se ut. Jämför de båda bildern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Bokrecension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kriv ett annat slut till bo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Beskriv en person i bo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Rita en person i bo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Beskriv miljön i bo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s förslag</a:t>
            </a:r>
            <a:endParaRPr b="0" lang="en-US" sz="4400" spc="-1" strike="noStrike">
              <a:solidFill>
                <a:srgbClr val="000000"/>
              </a:solidFill>
              <a:latin typeface="Arial"/>
            </a:endParaRPr>
          </a:p>
        </p:txBody>
      </p:sp>
      <p:sp>
        <p:nvSpPr>
          <p:cNvPr id="4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kriv ett författarporträ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kriv om illustratö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täll 10 frågor till huvudperson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Muntlig bokrecension för klass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Äldre elever läser för yng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Mm mm, det är bara fantasin som begränsar. Fyll gärna på med egna tips och idéer som du har så att alla kan ta del av do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 y="-612720"/>
            <a:ext cx="7664400" cy="1051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rot="21472800">
            <a:off x="-316080" y="1979280"/>
            <a:ext cx="7318440" cy="533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8920" y="-324000"/>
            <a:ext cx="7216920" cy="990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95440" y="-252360"/>
            <a:ext cx="7453440" cy="1022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09:08:36Z</dcterms:created>
  <dc:creator>chrlar1</dc:creator>
  <dc:description/>
  <dc:language>en-US</dc:language>
  <cp:lastModifiedBy>chrlar1</cp:lastModifiedBy>
  <dcterms:modified xsi:type="dcterms:W3CDTF">2009-09-15T09:23:47Z</dcterms:modified>
  <cp:revision>3</cp:revision>
  <dc:subject/>
  <dc:title>Läskotten</dc:title>
</cp:coreProperties>
</file>